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B425-6A70-41AC-9569-97A58EC8E6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war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A + A + A 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page 110 -111 of Chemical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length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ide group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branching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regularit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in flexibility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l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475-39A6-4F1F-BC96-A8009FA9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4BD-1FAC-4638-B77A-C322F45E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A0B-6F2F-4E43-BD16-4BDC1239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EE5-7F24-4A98-A24B-33FF162E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DEF-7731-4D0F-98AB-3242F79B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9A9-0981-4CA6-B961-57EEBAF6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76B-35D8-48EE-AD48-5E5F56CB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02B-70D0-4E6B-B7A7-472BBE76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3F8-836B-47F8-B255-6E52A2F4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266-0A4F-4A52-94D3-1421772A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6B3-F971-493C-B367-4F2DBCA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45E-AA1C-48FE-8451-87B15B6E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D3B8-69E6-4E3E-96D3-05A39E5DD8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tructure and Propertie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259092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know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nding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KISS"/>
          <p:cNvPicPr/>
          <p:nvPr/>
        </p:nvPicPr>
        <p:blipFill>
          <a:blip r:embed="rId1"/>
          <a:stretch/>
        </p:blipFill>
        <p:spPr>
          <a:xfrm>
            <a:off x="1752480" y="3429000"/>
            <a:ext cx="1152720" cy="18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8"/>
          <p:cNvGraphicFramePr/>
          <p:nvPr/>
        </p:nvGraphicFramePr>
        <p:xfrm>
          <a:off x="6553080" y="3809880"/>
          <a:ext cx="126864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3809880"/>
                    <a:ext cx="126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plastics (8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5049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ross links between ch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attractive forces between chains broken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arm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 shape - can be remoul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 forces reform in new shape when c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thermoplastic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19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rmo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34286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ve cross-linking formed by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prevent chains moving relative to each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will the properties of this type of plastic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thermoset"/>
          <p:cNvPicPr/>
          <p:nvPr/>
        </p:nvPicPr>
        <p:blipFill>
          <a:blip r:embed="rId1"/>
          <a:stretch/>
        </p:blipFill>
        <p:spPr>
          <a:xfrm>
            <a:off x="1371600" y="1447920"/>
            <a:ext cx="7010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nger chains make stronger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itical length needed before strength incre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ydrocarbon polymers average of 100 repeating units necessary but only 40 for nyl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nsile strength measures the forces needed to snap a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tangles + more touching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39760" y="2133720"/>
          <a:ext cx="341784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133720"/>
                    <a:ext cx="341784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ystalline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eas in polymer where chains packed in regular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oth amorphous and crystalline areas in same polym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rystalline - regular chain structure - no bulky side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ore crystalline polymer - stronger and less flex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7"/>
          <p:cNvGraphicFramePr/>
          <p:nvPr/>
        </p:nvGraphicFramePr>
        <p:xfrm>
          <a:off x="4973760" y="1600200"/>
          <a:ext cx="345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3760" y="1600200"/>
                    <a:ext cx="345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ld-dra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 polymer is stretched a ‘neck’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happens to the chains in the ‘neck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d drawing is used to increase a polymers’ strength. Why then do the handles of plastic carrier bags snap if you fill them full of tins of be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1447920" y="1295280"/>
          <a:ext cx="624816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4816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590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ng molecule made up from lots of small molecule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85800" y="1981080"/>
            <a:ext cx="3809880" cy="4114800"/>
            <a:chOff x="685800" y="1981080"/>
            <a:chExt cx="3809880" cy="4114800"/>
          </a:xfrm>
        </p:grpSpPr>
        <p:grpSp>
          <p:nvGrpSpPr>
            <p:cNvPr id="56" name="Group 6"/>
            <p:cNvGrpSpPr/>
            <p:nvPr/>
          </p:nvGrpSpPr>
          <p:grpSpPr>
            <a:xfrm>
              <a:off x="685800" y="1981080"/>
              <a:ext cx="3809880" cy="4114800"/>
              <a:chOff x="685800" y="1981080"/>
              <a:chExt cx="3809880" cy="4114800"/>
            </a:xfrm>
          </p:grpSpPr>
          <p:sp>
            <p:nvSpPr>
              <p:cNvPr id="57" name="Rectangle 7"/>
              <p:cNvSpPr/>
              <p:nvPr/>
            </p:nvSpPr>
            <p:spPr>
              <a:xfrm>
                <a:off x="685800" y="1981080"/>
                <a:ext cx="380988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8"/>
              <p:cNvGrpSpPr/>
              <p:nvPr/>
            </p:nvGrpSpPr>
            <p:grpSpPr>
              <a:xfrm>
                <a:off x="1031760" y="2310120"/>
                <a:ext cx="2943720" cy="2921040"/>
                <a:chOff x="1031760" y="2310120"/>
                <a:chExt cx="2943720" cy="2921040"/>
              </a:xfrm>
            </p:grpSpPr>
            <p:sp>
              <p:nvSpPr>
                <p:cNvPr id="59" name="Oval 9"/>
                <p:cNvSpPr/>
                <p:nvPr/>
              </p:nvSpPr>
              <p:spPr>
                <a:xfrm>
                  <a:off x="1031760" y="4614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0"/>
                <p:cNvSpPr/>
                <p:nvPr/>
              </p:nvSpPr>
              <p:spPr>
                <a:xfrm>
                  <a:off x="1291320" y="48474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1"/>
                <p:cNvSpPr/>
                <p:nvPr/>
              </p:nvSpPr>
              <p:spPr>
                <a:xfrm>
                  <a:off x="2619000" y="477864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2"/>
                <p:cNvSpPr/>
                <p:nvPr/>
              </p:nvSpPr>
              <p:spPr>
                <a:xfrm>
                  <a:off x="1637640" y="490212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3"/>
                <p:cNvSpPr/>
                <p:nvPr/>
              </p:nvSpPr>
              <p:spPr>
                <a:xfrm>
                  <a:off x="1969920" y="482004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4"/>
                <p:cNvSpPr/>
                <p:nvPr/>
              </p:nvSpPr>
              <p:spPr>
                <a:xfrm>
                  <a:off x="2272680" y="469656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15"/>
                <p:cNvGrpSpPr/>
                <p:nvPr/>
              </p:nvGrpSpPr>
              <p:grpSpPr>
                <a:xfrm>
                  <a:off x="1031760" y="2310120"/>
                  <a:ext cx="2943720" cy="1371240"/>
                  <a:chOff x="1031760" y="2310120"/>
                  <a:chExt cx="2943720" cy="1371240"/>
                </a:xfrm>
              </p:grpSpPr>
              <p:sp>
                <p:nvSpPr>
                  <p:cNvPr id="66" name="Oval 16"/>
                  <p:cNvSpPr/>
                  <p:nvPr/>
                </p:nvSpPr>
                <p:spPr>
                  <a:xfrm>
                    <a:off x="1551240" y="23101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Oval 17"/>
                  <p:cNvSpPr/>
                  <p:nvPr/>
                </p:nvSpPr>
                <p:spPr>
                  <a:xfrm>
                    <a:off x="2243880" y="280368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Oval 18"/>
                  <p:cNvSpPr/>
                  <p:nvPr/>
                </p:nvSpPr>
                <p:spPr>
                  <a:xfrm>
                    <a:off x="2590200" y="23101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Oval 19"/>
                  <p:cNvSpPr/>
                  <p:nvPr/>
                </p:nvSpPr>
                <p:spPr>
                  <a:xfrm>
                    <a:off x="1724400" y="296820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Oval 20"/>
                  <p:cNvSpPr/>
                  <p:nvPr/>
                </p:nvSpPr>
                <p:spPr>
                  <a:xfrm>
                    <a:off x="2763720" y="296820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Oval 21"/>
                  <p:cNvSpPr/>
                  <p:nvPr/>
                </p:nvSpPr>
                <p:spPr>
                  <a:xfrm>
                    <a:off x="3629520" y="263916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Oval 22"/>
                  <p:cNvSpPr/>
                  <p:nvPr/>
                </p:nvSpPr>
                <p:spPr>
                  <a:xfrm>
                    <a:off x="1955520" y="3352320"/>
                    <a:ext cx="34596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23"/>
                  <p:cNvSpPr/>
                  <p:nvPr/>
                </p:nvSpPr>
                <p:spPr>
                  <a:xfrm>
                    <a:off x="1031760" y="247428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Oval 24"/>
                  <p:cNvSpPr/>
                  <p:nvPr/>
                </p:nvSpPr>
                <p:spPr>
                  <a:xfrm>
                    <a:off x="1031760" y="3132720"/>
                    <a:ext cx="346320" cy="329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Oval 25"/>
                <p:cNvSpPr/>
                <p:nvPr/>
              </p:nvSpPr>
              <p:spPr>
                <a:xfrm>
                  <a:off x="3614760" y="46828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26"/>
                <p:cNvSpPr/>
                <p:nvPr/>
              </p:nvSpPr>
              <p:spPr>
                <a:xfrm>
                  <a:off x="3312000" y="4861080"/>
                  <a:ext cx="34632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27"/>
                <p:cNvSpPr/>
                <p:nvPr/>
              </p:nvSpPr>
              <p:spPr>
                <a:xfrm>
                  <a:off x="2980080" y="4737600"/>
                  <a:ext cx="345960" cy="32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" name="Line 28"/>
            <p:cNvSpPr/>
            <p:nvPr/>
          </p:nvSpPr>
          <p:spPr>
            <a:xfrm flipH="1">
              <a:off x="2762280" y="3627000"/>
              <a:ext cx="360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 the same mono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all same type (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A + A + A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A-A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g poly(ethene) polychloroethene  P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5105520" y="2362320"/>
          <a:ext cx="160020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16002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6248520" y="3809880"/>
          <a:ext cx="1676160" cy="16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809880"/>
                    <a:ext cx="167616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t mon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09480" y="2057400"/>
          <a:ext cx="17179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717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omers  of two different types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+ B + A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A-B-A-B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 polyam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ye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1981080" y="4038480"/>
          <a:ext cx="106992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10699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dition 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omers contain C=C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uble bond opens to (link) bond to next monomer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in forms when same basic unit is repeated over and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olymers also developed based on alkynes R-C    C - R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3211560" y="5410080"/>
            <a:ext cx="312840" cy="168120"/>
            <a:chOff x="3211560" y="5410080"/>
            <a:chExt cx="312840" cy="168120"/>
          </a:xfrm>
        </p:grpSpPr>
        <p:sp>
          <p:nvSpPr>
            <p:cNvPr id="94" name="Line 7"/>
            <p:cNvSpPr/>
            <p:nvPr/>
          </p:nvSpPr>
          <p:spPr>
            <a:xfrm>
              <a:off x="3211560" y="5410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"/>
            <p:cNvSpPr/>
            <p:nvPr/>
          </p:nvSpPr>
          <p:spPr>
            <a:xfrm>
              <a:off x="321156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3219480" y="557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polym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more than one monomer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rregular chain structure will result eg propene/ethene/propene/propene/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might polymers designers want to design a polymer in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Hint) Intermolecular bo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astomers, plastics &amp; fi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a definition and suggest your own example of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4800600" y="1828800"/>
          <a:ext cx="22096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828800"/>
                    <a:ext cx="22096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7010280" y="3048120"/>
          <a:ext cx="126540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048120"/>
                    <a:ext cx="126540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5105520" y="4038480"/>
          <a:ext cx="1815840" cy="14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4038480"/>
                    <a:ext cx="18158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ecides the properties of a poly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er attractive forces between chains = stronger, less flexible poly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ins able to slide past each other = flexible polymer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oly(ethene) attractive forces are weak instantaneous dipole - induced dipole, will it be flexibl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ylon has strong hydrogen bonds, why does this make it a strong fi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tting ideas 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page 110 -111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hemical Ide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e turns in explaining to a partner how the following molecular structures affect the overall properties of polymers 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chain length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00ff"/>
                </a:solidFill>
                <a:latin typeface="Times New Roman"/>
              </a:rPr>
              <a:t>different side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0099"/>
                </a:solidFill>
                <a:latin typeface="Times New Roman"/>
              </a:rPr>
              <a:t>chain branching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66ff33"/>
                </a:solidFill>
                <a:latin typeface="Times New Roman"/>
              </a:rPr>
              <a:t>stereoregular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6699"/>
                </a:solidFill>
                <a:latin typeface="Times New Roman"/>
              </a:rPr>
              <a:t>chain flexibility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993300"/>
                </a:solidFill>
                <a:latin typeface="Times New Roman"/>
              </a:rPr>
              <a:t>cross 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41:42Z</dcterms:created>
  <dc:creator>M Tyrrell</dc:creator>
  <dc:description/>
  <dc:language>en-US</dc:language>
  <cp:lastModifiedBy>RomaK</cp:lastModifiedBy>
  <dcterms:modified xsi:type="dcterms:W3CDTF">2015-09-02T06:00:53Z</dcterms:modified>
  <cp:revision>28</cp:revision>
  <dc:subject/>
  <dc:title>The Structure and Properties of Polymers</dc:title>
</cp:coreProperties>
</file>